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F7BE723-6881-4E3D-ABB0-50E8BF588493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11F8F57-AA7A-4A2E-AC27-6FD9D5F7248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E269CD-B5B0-4998-9BAE-5D746BDD07F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1E4FE6E-5CE7-4A70-8174-62B0384BCA5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3854212-A7AC-40C1-B70A-D3E9328DA59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062477A-2E04-4604-905E-B2BFA29CE87C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A4744A8-FD0A-44AA-B8DB-BC1381A063C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DC1-10B4-493A-8162-B2FBF4A9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626-1510-439E-BDD5-A71DF92A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26200E-4CA6-4C02-AF18-A22D6A37A5B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8C320E-C143-4AC5-9A2E-F1DE840779D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29AC40-363C-458F-BE3A-8DAC7019CBA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ECBE22-172D-49D0-B34A-A62B72EDF4D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8BA1B4-912B-4596-B76B-BB5C3864B12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0E9D02-B737-4138-8374-6C53A6B07E1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A5C61E-03EC-49BB-84E9-EA04B5E8BAC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1D4355-B363-48C4-9788-5322B53ABE3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323BDE-9CBD-468C-9C52-0A045C5E1C7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0C3-95D3-4D60-A7E6-9308B597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277-B16A-4159-B1B3-26C01CFC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0A6D-E76B-438E-ABDF-07F880D2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00BFC-289B-41B6-9B0E-6573374201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E3D0B-CF65-4F6A-8F02-717FDF5888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C92B2-6DC1-4C9E-949B-95BD9F10F6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02F56-DD23-4491-899B-3746F538DB9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5A4DD-529E-4BAD-8405-4205322344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E04-6FC9-459B-AD5A-DA815D61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E0BD0-49E1-4DC4-880C-BF587EF619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0BB43-8D49-4D2C-A9AB-686C5D3DC0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E3884-CA74-472D-8A22-D69A98D5C2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07189-1A22-4D92-BD10-D1D3B62871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5CA9B-FC6A-4201-ADDF-44B22139B1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D9525-BCA5-4AB3-B6CF-9BE016B7C7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872DD-641F-4E9C-9379-1583799432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E24832-DB99-4AAA-8964-4F52743CF6C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43286-A146-41D7-83A8-0EC6D7CA40D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A8F2B-471F-458D-91E3-850E1C910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E2E-C818-48F9-B008-E20E856F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402F3-F40B-4F3A-9A48-89CD099671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3AA5D-6FBB-42D0-A241-16B865466D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B0714-49E2-4E62-893A-A01810852DB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7BF18-FB5E-4408-9886-20703BADCD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D72DE-D918-4A15-A386-A53A0DE3F41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C60B7-8401-40B4-A97F-042DF6DE10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9C357-DD93-4DC2-9BD9-22D5E3EE89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BFDAFB-3DAE-4EAA-A0E9-021F41D6BB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8A6D5-312A-4836-9CC7-10ED06258B6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93A4-6315-4769-B7D2-D2133000C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778-0A76-4087-9B64-C0FFE66D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11C8-ACA0-4FFD-8AAF-3D9023D1BB8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D96F0-CD53-4052-A04D-735680BD2AB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4A66-2550-4CB7-AED8-A9E0A780693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1131-9DA4-43E4-8241-44D8E11BD0D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D732-3D55-4033-8B7F-0E475350999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3494-1874-4951-99BD-31102A226C2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7846-DB3B-4D8C-88C3-E3B9EED6352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7926-1B7C-48BB-A655-708C119099F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01D5-1553-4B2C-AF54-31333F34CBD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DC17-2669-44AC-8026-86C25A4A7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2F5-526F-40F1-9970-8F280D71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BFD0-48BF-439D-A072-0F8223F2349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CC6138-09EF-4207-BA3B-398B4D50E7A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F5B60C-DEC0-4172-A642-16211D1CE33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A87B73-E973-416C-91D4-94895101FA6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9E50A3-6B13-407A-9E0D-F7F176828AE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401E65-A5E6-4DE8-B5E9-83296D26A75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867CF5-EE96-41A9-9A77-B85D08015A7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FF6CA1-A346-435C-B6C5-3AE59EC5CC3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ECE0FD-841F-49A2-B9D3-81A92D9596A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996E63-59F2-4488-ADCC-FEF37B6F03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305-9D01-4AAE-AD4D-1D97D013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91827D-CC67-43CA-AD69-6CBDAB31B25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34B1B8-103A-467B-AF41-1A1AA6B18AF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E2E0C7-75BD-459E-B27D-03A91E4BB66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25DCB-688B-4492-9C5F-E40B6F8F13A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EEF59-847B-43AF-8B15-896B8FC8516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B9BA4-B22A-4902-B6D6-0FC389DB0EC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98DED9-0F4B-497B-A8FF-BB3E52F085C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9020C-699A-49D3-996A-2B718487CCF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AF4FC8-ACD1-4BF5-935F-BD16FD4B4D0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91A83-279A-4FA4-A2FC-C0467AF12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42D-5E16-4EA0-A18D-996D90FE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C5631-5203-48E9-AF0E-4F67A9BD4EA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220EDD-474E-4C41-834D-F562238D962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9F46B8-74A4-4FBA-A265-79F3042D800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2C86AE-E6D6-4CA6-BAFA-D20EA00FEE9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975BB4-F6F6-45A4-97F1-8EAB9565D3D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09D6B-4B9B-4043-B28C-FB50D7F7A8B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FB184-2996-4DC4-B345-118C28E928A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E116E-AC2F-40DA-BFF1-6EA5E9A0EFD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C3A03-2443-4FF6-B1EC-183FD8FE706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64E3D-799D-41D7-B096-E61AB274A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8E2B-B6B9-4D01-9FD8-331289DB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0D103-DE9D-40B2-8560-0F1094CEEB6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E914D-154A-4FA5-B804-5C2B654C65C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D3427-3449-4D13-A522-681BFFC61C2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3EAE3-934C-4CBE-9D86-DCEFF57E81A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1DB98-E700-402C-AC18-70191FBB574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43118-D8E3-4A25-AE51-2471B94E595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237B2-F336-4B6C-ACDD-F697465D598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3AD409-4883-45BB-895E-81A9BCDC604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5967C1-207F-4A6A-8F64-2649B1AAC58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7AB926-DD3B-486C-A3FC-73C1BDEDB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E47F1EA-4702-4F79-856A-769EDC2C6CC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AD4B9D8-6F3D-47FA-81E1-21F05C7720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2682720" y="0"/>
            <a:ext cx="3778560" cy="416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685800" y="4724280"/>
            <a:ext cx="77724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686440" y="627012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D8AA06B-65E1-4A78-AE36-6C92ABBB16E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378FFE2-62B6-45B2-94FF-BCCF9830A50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D65A8CC-1340-4F08-96D5-BCBAC7229F9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D41EEF7-E710-4454-9748-4E71984AA92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5385279-C44E-41F6-86FE-96E70D4AC58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38A96D3-B4F6-4462-85CF-4B225622C7C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297000" y="0"/>
            <a:ext cx="1760400" cy="19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6621480"/>
            <a:ext cx="9144000" cy="24588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686440" y="6168600"/>
            <a:ext cx="30492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CB95BE2-512F-4C3A-880B-9CEF8DDC266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lm.gov.lv/" TargetMode="External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50532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Vardarbības pret sievieti un vardarbības ģimenē novēršanas un apkarošanas plāna 2024.-2029.gadam</a:t>
            </a:r>
            <a:br>
              <a:rPr sz="2500"/>
            </a:br>
            <a:r>
              <a:rPr b="1" lang="lv-LV" sz="2500" spc="-1" strike="noStrike">
                <a:solidFill>
                  <a:srgbClr val="000000"/>
                </a:solidFill>
                <a:latin typeface="Verdana"/>
                <a:ea typeface="Verdana"/>
              </a:rPr>
              <a:t>izstrāde</a:t>
            </a:r>
            <a:br>
              <a:rPr sz="2500"/>
            </a:br>
            <a:r>
              <a:rPr b="1" lang="lv-LV" sz="1400" spc="-1" strike="noStrike">
                <a:solidFill>
                  <a:srgbClr val="000000"/>
                </a:solidFill>
                <a:latin typeface="Verdana"/>
                <a:ea typeface="Verdana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struktū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629138F-E4B0-4F6A-BC8D-859155D7F11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03360" y="1568160"/>
            <a:ext cx="8083440" cy="490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imes New Roman"/>
                <a:ea typeface="Verdana"/>
              </a:rPr>
              <a:t>Plāna mērķis - ir nodrošināt integrētu, mērķtiecīgu un efektīvu politiku, lai novērstu un apkarotu vardarbību pret sievietēm un vardarbību ģimen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Mērķa sasniegšanai tiek izvirzīti četri rīcības virzieni –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ā cietušo personu aizsardzības un atbalsta pasākumu nodrošināšana un to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s veicēja atbildības stiprināšana, atbalsta un rehabilitācijas pakalpojumu nodrošināšan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ienotas un koordinētas politikas izveide attiecībās uz vardarbību pret sievietēm un vardarbību ģimenē jautājumiem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Preventīvie pasākumi  vardarbības pret sievieti un vardarbības ģimenē novēršana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A8D7B43-8AC0-4090-8798-2A3C088D1FF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Sabiedrības izglītošana un izpratnes veicināšana par vardarbības pret sievieti un vardarbības ģimenē postošo ietekmi uz sabiedrību un ģime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ampaņas, izglītojoši pasākumi, izstrādāta un regulāri pilnveidota tīmekļa vietne  un aplikācija, viegli saprotamā valodā izstrādāti un izplatīti informatīvi materiāli par vardarbības atpazīša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nformatīvi starpdisciplinārie un izglītojošie  pasākumi speciālistiem un padziļinātas mācības tiesībsargājošajām iestādē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Konferences un starpdisciplināri informatīvie, un labās prakses popularizēšanas pasākum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ācības izglītības iestādes darbiniekiem, sociālā jomā strādājoš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Metodiskais materiāls darbā ar vardarbībā cietušiem bērn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Apmācības procesa virzītāji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Valsts policijas speciālistu zināšanas pilnve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zglītojoši pasākumi bērniem un viņu vecākiem/likumiskajiem pārstāvjiem par vardarbības atpazīšan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Bērniem un viņu vecākiem/likumiskajiem pārstāvjiem izglītojoši pasākumi par vardarbību, seksuālās izmantošanas riskiem, kaitīgu sekuālu uzvedību u.c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vardarbības mazināšanas un novēršanas programmas katrā izglītības iestādē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Resocializācijas programmas «Vecāku prasmes» nodrošināšan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  <a:ea typeface="Verdana"/>
              </a:rPr>
              <a:t>(2) Vardarbībā cietušo personu aizsardzības un atbalsta pasākumu nodrošināšana un to pilnveide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76DDD56-E403-4BFE-9CD8-71D46EC4E4C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03360" y="1549440"/>
            <a:ext cx="8083440" cy="4927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no vardarbības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atbalsta grupas, bezmaksas tālruņa izveide, atbalsta centrs seksuālajā vardarbībā cietušām personām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lnveidot tiesiskās aizsardzības nodrošināšanu vardarbībā cietušām personā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lektroniskā uzraudzība kā jauns drošības līdzeklis vai jau pastāvoša drošības līdzekļa elements kriminālproces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aplašināt personu loku, kuriem ir tiesības uz bezmaksas valsts nodrošināto juridisko palīdzīb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3) Vardarbības veicēja atbildības stiprināšana, atbalsta un rehabilitācijas pakalpojumu nodrošināšana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3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994D137-61F6-4B47-AAF8-6FF80A73033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3360" y="1539360"/>
            <a:ext cx="8083440" cy="4937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Atbalsta un sociālās rehabilitācijas pakalpojuma pilnveidošana vardarbību veikušām personām, vai personām, kuras baidās, ka var veikt vardarbīb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Esošo sociālo rehabilitāciju pakalpojumu efektivitātes izvērtēšana un pakalpojumu pilnvei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Jaunu atbalsta un palīdzība pakalpojumu izveide – pakalpojuma izveide nepilngadīgām personām, atbalsta grupas, bezmaksas tālruņa izveid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eviestas resocializācijas programmas vardarbīgu noziegumu veikušām personā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ā regulējuma pilnveide attiecībā uz vardarbību pret sievietēm un vardarbību ģimenē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u veikušām personām 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  <a:ea typeface="Verdana"/>
              </a:rPr>
              <a:t>piemērot kriminālsodus, kuri veicina personas maiņu domāšanā, attieksmē un uzvedībā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esiskajā regulējumā definēt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vardarbība ģimenē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96680" y="380880"/>
            <a:ext cx="72946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(4) Vienotas un koordinētas politikas izveide attiecībās uz vardarbību pret sievietēm un vardarbību ģimenē jautājumiem. </a:t>
            </a:r>
            <a:br>
              <a:rPr sz="16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1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9331C9F-164F-443C-9989-89D46FE0A29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03360" y="15998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Tiks izveidota </a:t>
            </a: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tarpinstitūciju darba grupu Plāna īstenošanas koordinēšanai 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Īstenot starpinstitucionālo sadarbību un vienotas politikas izstrād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 un ieviest obligātas un regulāras starpinstitucionālas sanāksmes augstas vardarbības riska gadījumos, tai skaitā vadlīnijas ar algorit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Starpdisciplināra atbalsta komanda darbā ar komplicētiem vardarbības gadījumiem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i priekšlikumi noteikumiem par Pašvaldību sadarbības grupu izveidi vardarbības pret pilngadīgu personu gadījum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Pierādījumos un vienotā metodoloģijā balstītas vardarbības monitoringa izveide un situācijas analī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āts vardarbības datu monitorings, veikti regulāri pētījumi, ietekmes novērtējum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ada pārskata sagatavošana un publicēšana par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vardarbību pret sievieti un vardarbību ģimenē situācijas analīzi un Plāna īstenotajiem pasākumi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ordVisi_MSFontService"/>
              <a:buChar char="-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85680" y="380880"/>
            <a:ext cx="6800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imes New Roman"/>
                <a:ea typeface="Verdana"/>
              </a:rPr>
              <a:t>Izstrādes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90560" y="6270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76920" y="627336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8686800" y="627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DC83D69-9FCB-4C34-8411-752D5A0D7F0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03360" y="1319040"/>
            <a:ext cx="8083440" cy="5158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8.septembrī pirmā darba grupa (Valsts iestādes, NV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2.oktobrī Plāna struktūra un apkopoti priekšlikumi izsūtīti iestādēm papildināšanai un komentē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7.oktobrim iesaistītās iestādes sniedz savus redzējumus Plānā ietvertajiem pasākum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Oktobrī un novembrī plānotas individuālas sanāksmes ar iestādēm un NV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imes New Roman"/>
                <a:ea typeface="Verdana"/>
              </a:rPr>
              <a:t>Līdz 1.novembrim tiks sagatavots ziņojums par paveikto saistībā ar Plāna izstrā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85800" y="310788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 u="sng">
                <a:solidFill>
                  <a:srgbClr val="0000ff"/>
                </a:solidFill>
                <a:uFillTx/>
                <a:latin typeface="Tahoma"/>
                <a:ea typeface="Verdana"/>
                <a:hlinkClick r:id="rId1"/>
              </a:rPr>
              <a:t>www.lm.gov.l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Twitter:@Lab_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https://www.facebook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Flickr.com:Labklajibas_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Youtube.com/labklajibasministr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5927"/>
                </a:solidFill>
                <a:latin typeface="Tahoma"/>
                <a:ea typeface="Verdana"/>
              </a:rPr>
              <a:t>Draugiem.lv/labklaj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57607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elde Kēla</cp:lastModifiedBy>
  <dcterms:modified xsi:type="dcterms:W3CDTF">2023-10-11T11:36:33Z</dcterms:modified>
  <cp:revision>115</cp:revision>
  <dc:subject/>
  <dc:title>PowerPoint Presentation</dc:title>
</cp:coreProperties>
</file>